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7DB0-AAA6-4E04-BCBD-6C17D8743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E24D-9949-4B6C-8207-739355F60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1FF4-3D17-4B97-B5B7-757BC2E5B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004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16EB-C30B-4219-9502-A0D3A1083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2482-FA88-4AA4-9C03-342772015A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6D26-80FC-43F5-9243-910D5A5138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BF562-B52E-424F-8080-456A868050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945A-0BEE-4B3D-BBC5-4FECF4564B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BB72-B0BA-4390-BB0B-C93D726501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6291-80FE-42EE-AFC8-56F1F9E158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27D1-4A1B-450F-A433-982CA527B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74A1-5DA1-4D9D-BC92-0CE98027B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228A-199F-46F2-90C6-5199A6313B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2486-7204-4D8A-B940-DF7CB3D7FF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378F-EA57-41B5-993E-733BA296DC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FD0A-6461-4310-B48A-938DB53AD5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3572-CCD2-4278-B0E6-5801D9AF8E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167-3635-4F85-80AA-1E2C175810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EAE-6ACC-4985-8181-EFF470D626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309-4C89-4E52-857C-20FA90F4FA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9E9-F84D-4081-8819-9F3D3E3E96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4A9-EB93-4F13-9BF2-C8A22F92B5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0B6D-CD17-4920-8AF0-37883144E4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D1B-CE90-45FD-A3E9-6774BF4F59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605-E00A-40CC-A4C6-3DD9804FDF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559-A7BC-4302-BDAF-D891879F5A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562-B6C5-49F6-8CD9-F11C36A075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EC2-DD8C-477A-9F74-C352E64871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8B6-1A8A-4A5F-ABDF-924E5AA347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14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2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7004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F87-DE56-4AED-9EA2-04FD621DFB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C8511-0C95-48DF-AA27-808EEBB816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8CB41-D973-444B-B837-7A8544BD01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538E8-562F-43FC-846C-1D86C83B3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CE7F-094B-4DF6-B876-C00752657C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51369-92C0-495E-B20A-DCF5929396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B687D-F106-4910-8A85-990FA8FB99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5F811-D80D-4932-A264-8C5184B153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64A19-C7C4-4306-B90E-34068E6694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051FB-CB96-4CC5-9589-B69BEC97A1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C9765-1F6F-4895-8F33-0168D1B34A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4623E-3DC7-4B18-9F99-F9B203E544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5FA0F-80F5-4938-96F5-9F669EC3AD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F6276-266D-45E1-983D-7A9A6D00BA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6A478-D72F-475D-98C2-332CF4557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E511-60F3-456A-BC40-A00588B1EF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1176F-1419-4EFB-81C5-8EA9D71A7C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C3B29-ACC3-460C-807A-BA2EBCDC44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78F14-1C9D-477F-95F6-77B5D608D9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97937-05F4-4330-BC56-8BA0822ED6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97385-E532-44E0-B735-0BE1EE3E9A1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00268-328F-4B4A-9F81-1F971B019F6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B0D9A-4B76-497C-B06F-E913E0E9834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6C80B-FFBE-4590-9B21-85698AE24B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EB568-D459-46BA-97CD-51DC085B62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DA233-0E1E-4F74-A30F-856B48A5D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A8DC-D911-4EE3-9C36-B6E9B3A397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4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42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7004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C2C20-69D5-404F-B9F4-C46698AF4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EF3D-968B-4C7B-864C-07E8BC446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D1D6-7DEE-45A4-951C-53D12E7B7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84D0-0E74-4B1A-AD70-68FC84A6E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36400" indent="-22860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11080" indent="-228600">
              <a:spcBef>
                <a:spcPts val="601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85760" indent="-228600">
              <a:spcBef>
                <a:spcPts val="601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360440" indent="-228600">
              <a:spcBef>
                <a:spcPts val="601"/>
              </a:spcBef>
              <a:buClr>
                <a:srgbClr val="a28e6a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81A0-DAF0-47AD-A281-B67619A53762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36400" indent="-22860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11080" indent="-228600">
              <a:spcBef>
                <a:spcPts val="601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85760" indent="-228600">
              <a:spcBef>
                <a:spcPts val="601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360440" indent="-228600">
              <a:spcBef>
                <a:spcPts val="601"/>
              </a:spcBef>
              <a:buClr>
                <a:srgbClr val="a28e6a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E6AD-C309-42E5-9F47-7E555BC1BA9B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480" y="60480"/>
            <a:ext cx="9028080" cy="6711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 rot="10800000">
            <a:off x="69840" y="237636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36400" indent="-22860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11080" indent="-228600">
              <a:spcBef>
                <a:spcPts val="601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85760" indent="-228600">
              <a:spcBef>
                <a:spcPts val="601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360440" indent="-228600">
              <a:spcBef>
                <a:spcPts val="601"/>
              </a:spcBef>
              <a:buClr>
                <a:srgbClr val="a28e6a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255240" y="6329160"/>
            <a:ext cx="236520" cy="215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70D9-66E2-4A38-81F4-529E6C1AC183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36400" indent="-22860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11080" indent="-228600">
              <a:spcBef>
                <a:spcPts val="601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85760" indent="-228600">
              <a:spcBef>
                <a:spcPts val="601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360440" indent="-228600">
              <a:spcBef>
                <a:spcPts val="601"/>
              </a:spcBef>
              <a:buClr>
                <a:srgbClr val="a28e6a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0545-235A-4F77-A0B6-7A6DA32CEED2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rot="10800000">
            <a:off x="68400" y="468288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36400" indent="-22860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11080" indent="-228600">
              <a:spcBef>
                <a:spcPts val="601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85760" indent="-228600">
              <a:spcBef>
                <a:spcPts val="601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360440" indent="-228600">
              <a:spcBef>
                <a:spcPts val="601"/>
              </a:spcBef>
              <a:buClr>
                <a:srgbClr val="a28e6a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255240" y="6329160"/>
            <a:ext cx="236520" cy="215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BD41-883E-4A99-89BE-F903C9390947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072C-A47C-4D78-B653-601603936BBD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14600" y="53337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Lucida Grande"/>
              </a:rPr>
              <a:t>Prepared by: Ms. Persi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96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Lucida Grande"/>
              </a:rPr>
              <a:t>13</a:t>
            </a:r>
            <a:r>
              <a:rPr b="0" lang="en-US" sz="2600" spc="-1" strike="noStrike" baseline="30000">
                <a:solidFill>
                  <a:srgbClr val="696464"/>
                </a:solidFill>
                <a:latin typeface="Lucida Grande"/>
              </a:rPr>
              <a:t>th</a:t>
            </a:r>
            <a:r>
              <a:rPr b="0" lang="en-US" sz="2600" spc="-1" strike="noStrike">
                <a:solidFill>
                  <a:srgbClr val="696464"/>
                </a:solidFill>
                <a:latin typeface="Lucida Grande"/>
              </a:rPr>
              <a:t> January 2011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57200" y="649080"/>
            <a:ext cx="8229600" cy="3184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Gramm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Gerunds &amp; Infinitive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382C-3026-45CC-9D48-89A938C51BBD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Gerund 1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09480" y="990720"/>
          <a:ext cx="8137440" cy="4114800"/>
        </p:xfrm>
        <a:graphic>
          <a:graphicData uri="http://schemas.openxmlformats.org/drawingml/2006/table">
            <a:tbl>
              <a:tblPr/>
              <a:tblGrid>
                <a:gridCol w="1209600"/>
                <a:gridCol w="2067120"/>
                <a:gridCol w="2020680"/>
                <a:gridCol w="2840040"/>
              </a:tblGrid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Sub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Ver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Ger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Ob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enj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orking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n my garde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finis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tudy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t midnigh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top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rai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few minutes ag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Dav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qu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mok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postpo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do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my homework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m consid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go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o Hawa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discus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g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new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alk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(about) g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new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8A4D-92AD-4D4E-946E-23F0D24E4FC1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Gerund 2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09480" y="1219320"/>
          <a:ext cx="7924680" cy="2743200"/>
        </p:xfrm>
        <a:graphic>
          <a:graphicData uri="http://schemas.openxmlformats.org/drawingml/2006/table">
            <a:tbl>
              <a:tblPr/>
              <a:tblGrid>
                <a:gridCol w="1981080"/>
                <a:gridCol w="5943600"/>
              </a:tblGrid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Ver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Ger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Kee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(on) work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Kee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(on) sing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Kee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(on) mov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ould you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mind openin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he window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64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ould you please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kee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o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alk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3DB1-AF05-41AA-9110-61B3E649E83D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Gerund 3 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verbs in the list are NOT followed by </a:t>
            </a:r>
            <a:r>
              <a:rPr b="1" lang="en-US" sz="2600" spc="-1" strike="noStrike">
                <a:solidFill>
                  <a:srgbClr val="000000"/>
                </a:solidFill>
                <a:latin typeface="Lucida Grande"/>
              </a:rPr>
              <a:t>to + simple form of a verb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(an infinitive)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.g. a. I enjoy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to walk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n the park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b. Bob finish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to study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. I’m thinking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to go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o Hawaii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2743200"/>
            <a:ext cx="12193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806"/>
                  <a:pt x="10800" y="1800"/>
                </a:cubicBezTo>
                <a:lnTo>
                  <a:pt x="10800" y="9000"/>
                </a:lnTo>
                <a:cubicBezTo>
                  <a:pt x="10800" y="9994"/>
                  <a:pt x="15635" y="10800"/>
                  <a:pt x="21600" y="10800"/>
                </a:cubicBezTo>
                <a:cubicBezTo>
                  <a:pt x="15635" y="10800"/>
                  <a:pt x="10800" y="11606"/>
                  <a:pt x="10800" y="12600"/>
                </a:cubicBezTo>
                <a:lnTo>
                  <a:pt x="10800" y="19800"/>
                </a:lnTo>
                <a:cubicBezTo>
                  <a:pt x="10800" y="20794"/>
                  <a:pt x="5965" y="21600"/>
                  <a:pt x="0" y="21600"/>
                </a:cubicBezTo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3124080"/>
            <a:ext cx="19940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9C0B-5862-42CD-A4F7-51F5977449C5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Gerund 4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Negative forms of gerund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09480" y="1981080"/>
          <a:ext cx="8137440" cy="4114800"/>
        </p:xfrm>
        <a:graphic>
          <a:graphicData uri="http://schemas.openxmlformats.org/drawingml/2006/table">
            <a:tbl>
              <a:tblPr/>
              <a:tblGrid>
                <a:gridCol w="1209600"/>
                <a:gridCol w="2295720"/>
                <a:gridCol w="2057400"/>
                <a:gridCol w="2574720"/>
              </a:tblGrid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Sub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Ger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Ob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o 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enj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orking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n my garde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fi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tudy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t midnigh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ra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Dav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qu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mok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postp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do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my homework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onsid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go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o Hawa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discu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g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new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tal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(about) g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new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3B15-8909-43AF-99D6-478C8E488511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Infinitive 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25480" y="671400"/>
          <a:ext cx="7924680" cy="6148080"/>
        </p:xfrm>
        <a:graphic>
          <a:graphicData uri="http://schemas.openxmlformats.org/drawingml/2006/table">
            <a:tbl>
              <a:tblPr/>
              <a:tblGrid>
                <a:gridCol w="2641680"/>
                <a:gridCol w="5283000"/>
              </a:tblGrid>
              <a:tr h="46764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Verb + 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964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54040" indent="-514440">
                        <a:lnSpc>
                          <a:spcPct val="100000"/>
                        </a:lnSpc>
                        <a:buClr>
                          <a:srgbClr val="d34817"/>
                        </a:buClr>
                        <a:buSzPct val="85000"/>
                        <a:buFont typeface="Lucida Grande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om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offered to le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me some money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040" indent="-514440">
                        <a:lnSpc>
                          <a:spcPct val="100000"/>
                        </a:lnSpc>
                        <a:buClr>
                          <a:srgbClr val="d34817"/>
                        </a:buClr>
                        <a:buSzPct val="85000"/>
                        <a:buFont typeface="Lucida Grande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’v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ecided to bu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new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ome verbs are followed by an infinitive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N INFINITIVE 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+ the simple form of a ver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1991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) I’v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ecided not to kee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my old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Negative form: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+ infini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29644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ommon verbs followed by infini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ant    hope    decide    seem    learn (how)    need    expect    promise    app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ould like      plan    offer    pretend      would love       intend    agree   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refuse    forget    (can’t) afford    (can’t) wa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8197-5BD1-4265-AA3C-7866A3C258BE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Gerund OR Infinitive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14400" y="635040"/>
          <a:ext cx="7785000" cy="6172200"/>
        </p:xfrm>
        <a:graphic>
          <a:graphicData uri="http://schemas.openxmlformats.org/drawingml/2006/table">
            <a:tbl>
              <a:tblPr/>
              <a:tblGrid>
                <a:gridCol w="2747880"/>
                <a:gridCol w="5037120"/>
              </a:tblGrid>
              <a:tr h="52848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Verb + Gerund OR Infiniti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1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) It began raining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b) It began to rai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ome verbs are followed by either a gerund or an infinitive. Usually there is no difference in meaning. (a) and (b) have the same meaning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51468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ommon verbs followed by either a gerund or an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begin            like**           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tart            love**            can’t st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ontin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ould like        would love    are followed by infinitive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 would like to go to a movie tonigh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ylorsadmin</dc:creator>
  <dc:description/>
  <dc:language>en-US</dc:language>
  <cp:lastModifiedBy/>
  <cp:revision>0</cp:revision>
  <dc:subject/>
  <dc:title>Grammar  Modals: can &amp; must</dc:title>
</cp:coreProperties>
</file>